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DDBEB-E086-468D-8D37-4D6979E8BB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7B14E-70B8-4511-BCE1-3AE3A65CDC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3C23C-8ABE-4B75-ADBB-BCE348F30D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33B5-F35D-48AB-9B88-CF4A8E8844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DE8C2-7FAF-49E8-95B5-964A0AB753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96F74-D5A4-41FD-882C-5C3A94572A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EE4C4-40F5-4558-BBFA-A7239F9D37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3DFA9-E6AD-4E9C-B0E1-CBC81241E2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4FD1D-98C0-4FEA-8AC9-75B8C717C9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7DD85-71ED-4B17-B576-83BE8325A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8F649-7495-4C46-B04A-626C94102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BE399-D5FF-4C83-A04A-79D190F5D2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76BB-A30B-49C2-A7AB-5C76E8B8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0DF-9A40-4238-9967-67EA2B0D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9B3-1739-4C6E-8FFF-EAF6623F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0BC-A618-4DE7-8E18-EC8D132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F6F-F7F2-4A28-BD40-789D1A42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8A7-9D99-4783-8FBA-BB9D3CE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992-8575-4176-97AC-F7814CA9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548D-3F5B-4C0C-A511-2C14B137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9A1-9064-4D90-ABA3-CD90EFE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2AE-4329-49AB-99C6-FAE738AB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278-2EA1-4EFE-B02D-11097C4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836-248D-4A61-8757-73DEC40C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45F019E-93C7-42BF-A681-7B81119B83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503280" y="1474920"/>
            <a:ext cx="82090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Урок по окружающему миру во 2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503280" y="1332000"/>
            <a:ext cx="8993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рта и глобус</a:t>
            </a: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охожи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F:\Ирина\Изображения\карта мира 2f.jpg"/>
          <p:cNvPicPr/>
          <p:nvPr/>
        </p:nvPicPr>
        <p:blipFill>
          <a:blip r:embed="rId1"/>
          <a:stretch/>
        </p:blipFill>
        <p:spPr>
          <a:xfrm>
            <a:off x="287280" y="2195640"/>
            <a:ext cx="6143760" cy="5000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F:\Ирина\Изображения\глобус.jpg"/>
          <p:cNvPicPr/>
          <p:nvPr/>
        </p:nvPicPr>
        <p:blipFill>
          <a:blip r:embed="rId2"/>
          <a:stretch/>
        </p:blipFill>
        <p:spPr>
          <a:xfrm>
            <a:off x="6553080" y="2411280"/>
            <a:ext cx="300060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47640" y="3218040"/>
            <a:ext cx="84963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ты чувствовал себя во время уро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было самое слож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самое простое было для теб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самое интерес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655640" y="1619280"/>
            <a:ext cx="4052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Валерий\Desktop\1\Миша и Лена1.jpg"/>
          <p:cNvPicPr/>
          <p:nvPr/>
        </p:nvPicPr>
        <p:blipFill>
          <a:blip r:embed="rId1"/>
          <a:stretch/>
        </p:blipFill>
        <p:spPr>
          <a:xfrm>
            <a:off x="3384720" y="2484360"/>
            <a:ext cx="5214600" cy="4657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863640" y="1187280"/>
            <a:ext cx="66358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ы и Миши отправляются в путеше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F:\Ирина\Изображения\карта 1.jpg"/>
          <p:cNvPicPr/>
          <p:nvPr/>
        </p:nvPicPr>
        <p:blipFill>
          <a:blip r:embed="rId1"/>
          <a:stretch/>
        </p:blipFill>
        <p:spPr>
          <a:xfrm>
            <a:off x="4392720" y="3059280"/>
            <a:ext cx="52149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Ирина\Изображения\глобус1.jpg"/>
          <p:cNvPicPr/>
          <p:nvPr/>
        </p:nvPicPr>
        <p:blipFill>
          <a:blip r:embed="rId2"/>
          <a:stretch/>
        </p:blipFill>
        <p:spPr>
          <a:xfrm>
            <a:off x="360360" y="3059280"/>
            <a:ext cx="33336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576360" y="1692360"/>
            <a:ext cx="878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Глобус и к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Валерий\Desktop\1\Апельсин.jpg"/>
          <p:cNvPicPr/>
          <p:nvPr/>
        </p:nvPicPr>
        <p:blipFill>
          <a:blip r:embed="rId1"/>
          <a:stretch/>
        </p:blipFill>
        <p:spPr>
          <a:xfrm>
            <a:off x="647640" y="2700360"/>
            <a:ext cx="266544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Стрелка вправо 2"/>
          <p:cNvSpPr/>
          <p:nvPr/>
        </p:nvSpPr>
        <p:spPr>
          <a:xfrm>
            <a:off x="4248000" y="3274920"/>
            <a:ext cx="1071720" cy="57168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Валерий\Desktop\1\огрызки.jpg"/>
          <p:cNvPicPr/>
          <p:nvPr/>
        </p:nvPicPr>
        <p:blipFill>
          <a:blip r:embed="rId2"/>
          <a:stretch/>
        </p:blipFill>
        <p:spPr>
          <a:xfrm>
            <a:off x="5616720" y="2916360"/>
            <a:ext cx="3506760" cy="128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Валерий\Desktop\1\4.jpg"/>
          <p:cNvPicPr/>
          <p:nvPr/>
        </p:nvPicPr>
        <p:blipFill>
          <a:blip r:embed="rId3"/>
          <a:stretch/>
        </p:blipFill>
        <p:spPr>
          <a:xfrm>
            <a:off x="647640" y="5508720"/>
            <a:ext cx="3044880" cy="1600200"/>
          </a:xfrm>
          <a:prstGeom prst="rect">
            <a:avLst/>
          </a:prstGeom>
          <a:ln w="0">
            <a:noFill/>
          </a:ln>
        </p:spPr>
      </p:pic>
      <p:sp>
        <p:nvSpPr>
          <p:cNvPr id="58" name="Стрелка вниз 5"/>
          <p:cNvSpPr/>
          <p:nvPr/>
        </p:nvSpPr>
        <p:spPr>
          <a:xfrm>
            <a:off x="6769080" y="4427640"/>
            <a:ext cx="642960" cy="928440"/>
          </a:xfrm>
          <a:prstGeom prst="downArrow">
            <a:avLst>
              <a:gd name="adj1" fmla="val 50000"/>
              <a:gd name="adj2" fmla="val 49985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Валерий\Desktop\1\3.jpg"/>
          <p:cNvPicPr/>
          <p:nvPr/>
        </p:nvPicPr>
        <p:blipFill>
          <a:blip r:embed="rId4"/>
          <a:stretch/>
        </p:blipFill>
        <p:spPr>
          <a:xfrm>
            <a:off x="5688000" y="5508720"/>
            <a:ext cx="3060720" cy="1341360"/>
          </a:xfrm>
          <a:prstGeom prst="rect">
            <a:avLst/>
          </a:prstGeom>
          <a:ln w="0">
            <a:noFill/>
          </a:ln>
        </p:spPr>
      </p:pic>
      <p:sp>
        <p:nvSpPr>
          <p:cNvPr id="60" name="Стрелка влево 7"/>
          <p:cNvSpPr/>
          <p:nvPr/>
        </p:nvSpPr>
        <p:spPr>
          <a:xfrm>
            <a:off x="4103640" y="6156360"/>
            <a:ext cx="1071720" cy="571320"/>
          </a:xfrm>
          <a:prstGeom prst="left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576360" y="1042920"/>
            <a:ext cx="90723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объемное изображение превратить в плоское? Карта ми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76360" y="1619280"/>
            <a:ext cx="85676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смотрите и прокомментируйте слай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Валерий\Desktop\1\5.jpg"/>
          <p:cNvPicPr/>
          <p:nvPr/>
        </p:nvPicPr>
        <p:blipFill>
          <a:blip r:embed="rId1"/>
          <a:stretch/>
        </p:blipFill>
        <p:spPr>
          <a:xfrm>
            <a:off x="1440000" y="2700360"/>
            <a:ext cx="1719000" cy="18493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3"/>
          <p:cNvSpPr/>
          <p:nvPr/>
        </p:nvSpPr>
        <p:spPr>
          <a:xfrm>
            <a:off x="4176720" y="3564000"/>
            <a:ext cx="1000080" cy="431640"/>
          </a:xfrm>
          <a:prstGeom prst="rightArrow">
            <a:avLst>
              <a:gd name="adj1" fmla="val 50000"/>
              <a:gd name="adj2" fmla="val 50050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:\Users\Валерий\Desktop\1\6.jpg"/>
          <p:cNvPicPr/>
          <p:nvPr/>
        </p:nvPicPr>
        <p:blipFill>
          <a:blip r:embed="rId2"/>
          <a:stretch/>
        </p:blipFill>
        <p:spPr>
          <a:xfrm>
            <a:off x="6048360" y="2843280"/>
            <a:ext cx="1982880" cy="15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Валерий\Desktop\1\8.jpg"/>
          <p:cNvPicPr/>
          <p:nvPr/>
        </p:nvPicPr>
        <p:blipFill>
          <a:blip r:embed="rId3"/>
          <a:stretch/>
        </p:blipFill>
        <p:spPr>
          <a:xfrm>
            <a:off x="576360" y="5508720"/>
            <a:ext cx="3087720" cy="1500120"/>
          </a:xfrm>
          <a:prstGeom prst="rect">
            <a:avLst/>
          </a:prstGeom>
          <a:ln w="0">
            <a:noFill/>
          </a:ln>
        </p:spPr>
      </p:pic>
      <p:sp>
        <p:nvSpPr>
          <p:cNvPr id="67" name="Стрелка влево 6"/>
          <p:cNvSpPr/>
          <p:nvPr/>
        </p:nvSpPr>
        <p:spPr>
          <a:xfrm>
            <a:off x="4248000" y="6227640"/>
            <a:ext cx="1000440" cy="571680"/>
          </a:xfrm>
          <a:prstGeom prst="left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7"/>
          <p:cNvSpPr/>
          <p:nvPr/>
        </p:nvSpPr>
        <p:spPr>
          <a:xfrm>
            <a:off x="6696000" y="4500720"/>
            <a:ext cx="571680" cy="785520"/>
          </a:xfrm>
          <a:prstGeom prst="downArrow">
            <a:avLst>
              <a:gd name="adj1" fmla="val 50000"/>
              <a:gd name="adj2" fmla="val 49968"/>
            </a:avLst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:\Users\Валерий\Desktop\1\7.jpg"/>
          <p:cNvPicPr/>
          <p:nvPr/>
        </p:nvPicPr>
        <p:blipFill>
          <a:blip r:embed="rId4"/>
          <a:stretch/>
        </p:blipFill>
        <p:spPr>
          <a:xfrm>
            <a:off x="5761080" y="5580000"/>
            <a:ext cx="32353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503280" y="1042920"/>
            <a:ext cx="5538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ираем паз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Ирина\Изображения\Пазлы.jpg"/>
          <p:cNvPicPr/>
          <p:nvPr/>
        </p:nvPicPr>
        <p:blipFill>
          <a:blip r:embed="rId1"/>
          <a:stretch/>
        </p:blipFill>
        <p:spPr>
          <a:xfrm>
            <a:off x="4103640" y="1763640"/>
            <a:ext cx="55720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03280" y="1474920"/>
            <a:ext cx="90741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 отличается глобус от карты?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олжите предлож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503280" y="3635280"/>
            <a:ext cx="7777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( какой?)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(какая?) 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503280" y="1116000"/>
            <a:ext cx="7921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ось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03280" y="3476520"/>
            <a:ext cx="8640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 объёмный, карта плоск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719280" y="1258920"/>
            <a:ext cx="7921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м похожи глобус и кар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Валерий\Desktop\1\Миша и Лена2.jpg"/>
          <p:cNvPicPr/>
          <p:nvPr/>
        </p:nvPicPr>
        <p:blipFill>
          <a:blip r:embed="rId1"/>
          <a:stretch/>
        </p:blipFill>
        <p:spPr>
          <a:xfrm>
            <a:off x="1857240" y="3030480"/>
            <a:ext cx="4214880" cy="3584520"/>
          </a:xfrm>
          <a:prstGeom prst="rect">
            <a:avLst/>
          </a:prstGeom>
          <a:ln w="0">
            <a:noFill/>
          </a:ln>
        </p:spPr>
      </p:pic>
      <p:sp>
        <p:nvSpPr>
          <p:cNvPr id="78" name="Овал 5"/>
          <p:cNvSpPr/>
          <p:nvPr/>
        </p:nvSpPr>
        <p:spPr>
          <a:xfrm>
            <a:off x="792000" y="2195640"/>
            <a:ext cx="3780000" cy="1805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А я нашла 4 одинаковых приз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5286240" y="1857240"/>
            <a:ext cx="3071880" cy="1643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24:28Z</dcterms:created>
  <dc:creator>владелец</dc:creator>
  <dc:description/>
  <dc:language>en-US</dc:language>
  <cp:lastModifiedBy>Марина</cp:lastModifiedBy>
  <dcterms:modified xsi:type="dcterms:W3CDTF">2012-11-06T15:52:41Z</dcterms:modified>
  <cp:revision>4</cp:revision>
  <dc:subject/>
  <dc:title>Слайд 1</dc:title>
</cp:coreProperties>
</file>