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15ADB-6419-40BB-BD37-0431F538D6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1A630-C7FD-40E7-B86D-F03DAC7C51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082CB-9FB2-49BF-B97A-F36F13CB36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A4AF6-37E5-43CF-AAAA-B815E16EA8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12380-D558-4C3A-9ADB-2273DF6A84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18233-CF34-4620-B0B7-E44D6A0898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F5121-60EF-4C12-957C-E8E05603C0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1A00A-C910-422A-8BD6-2D85025CB0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5BE0E-31D6-4FB9-9689-2D1C711684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6ECDD-8ED7-48FC-A9AD-0B06921182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E613E-80F2-415C-92E3-6D5661F7C7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CAB7F-A0BD-4C23-A531-EAA3E6BAAE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6EDAE-95EE-4991-ADCF-6D9AB47AFA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A7FA7-4F4C-4E6F-AD58-7170790AF2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FF004-5A17-4894-9C3B-61A39789AA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62974-8C9A-408A-9E81-3AA015987E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C3766-D1F3-4E6E-BBD6-C670048485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A5891-C974-4EF1-8927-71768C63BD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6975-B59F-41C0-A672-3653DE49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95E-4C52-46DD-9E9E-98090884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CBE1-B58B-4504-8CE5-3CDD4809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994B-BFA6-4C79-B7EB-45A86F7B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23A-0477-4441-AE8D-8E6C66A6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B3D5-FC1C-478C-B30B-A4AF7953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9C3-740B-4F63-839C-00A3F53B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574-416E-4D22-B3FC-99A49E26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C74-A719-4FA4-B7CC-10573607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307-EB4A-4801-9DF7-7D5CF599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198-66F6-4233-8F02-E3B68A80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A2F-F2E0-4EEA-B432-8B492E74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2958C3-EB5A-412C-A672-8D858F2016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647640" y="900000"/>
            <a:ext cx="691200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рок окружающего мира 2 класс по теме «Глобус- модель Земли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079640" y="900000"/>
            <a:ext cx="586404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и такие необычные глобу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Глобус   модель Земли окружающий мир Интернет урок интересное "/>
          <p:cNvPicPr/>
          <p:nvPr/>
        </p:nvPicPr>
        <p:blipFill>
          <a:blip r:embed="rId1"/>
          <a:stretch/>
        </p:blipFill>
        <p:spPr>
          <a:xfrm>
            <a:off x="2735280" y="2771640"/>
            <a:ext cx="409572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008000" y="971640"/>
            <a:ext cx="48913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с из л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Глобус   модель Земли окружающий мир Интернет урок интересное "/>
          <p:cNvPicPr/>
          <p:nvPr/>
        </p:nvPicPr>
        <p:blipFill>
          <a:blip r:embed="rId1"/>
          <a:stretch/>
        </p:blipFill>
        <p:spPr>
          <a:xfrm>
            <a:off x="1800360" y="2124000"/>
            <a:ext cx="5715000" cy="39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647640" y="611280"/>
            <a:ext cx="9001080" cy="28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остонской библиотеке Мерри Бейкер Эдди есть гигантский шар Маппариум, выполненный из стекла. Внутренние стенки шара представляют собой гигантскую политическую карту мира со сверкающую цветной подсветкой и огоньками городов. Глобус изну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Глобус   модель Земли окружающий мир Интернет урок интересное "/>
          <p:cNvPicPr/>
          <p:nvPr/>
        </p:nvPicPr>
        <p:blipFill>
          <a:blip r:embed="rId1"/>
          <a:stretch/>
        </p:blipFill>
        <p:spPr>
          <a:xfrm>
            <a:off x="1944720" y="356400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719280" y="755640"/>
            <a:ext cx="8929440" cy="20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уникальный для изучения нашей планеты виртуальный глобус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gle Earth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едует скачать программу на свой компьютер). Благодаря виртуальному глобусу вы сможете побывать и на северном полюсе и на острове в Тихим оке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647640" y="3419640"/>
            <a:ext cx="892980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я нашу планету следует знать некоторые поня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вато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воображаемая линия пересечения земной поверхности плоск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идианы и параллел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еографии называют условные линии разделения земного шара. На картах и глобусах они исполняют роль ориентира, по которому можно указать местонахождение объекта на материке или в оке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Глобус   модель Земли окружающий мир Интернет урок интересное "/>
          <p:cNvPicPr/>
          <p:nvPr/>
        </p:nvPicPr>
        <p:blipFill>
          <a:blip r:embed="rId1"/>
          <a:stretch/>
        </p:blipFill>
        <p:spPr>
          <a:xfrm>
            <a:off x="1511280" y="1619280"/>
            <a:ext cx="6697800" cy="520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431640" y="611280"/>
            <a:ext cx="921708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и воображаемые линии делят Землю на полушария: Северное и Южное; Западное и Восто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Глобус   модель Земли окружающий мир Интернет урок интересное "/>
          <p:cNvPicPr/>
          <p:nvPr/>
        </p:nvPicPr>
        <p:blipFill>
          <a:blip r:embed="rId1"/>
          <a:stretch/>
        </p:blipFill>
        <p:spPr>
          <a:xfrm>
            <a:off x="576360" y="2124000"/>
            <a:ext cx="9001080" cy="50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1152360" y="1692360"/>
            <a:ext cx="7344000" cy="34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ета Земля — самая уникальная и такая прекрасная. Берегите её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792000" y="1403280"/>
            <a:ext cx="76327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Глобус   модель Земли окружающий мир Интернет урок интересное "/>
          <p:cNvPicPr/>
          <p:nvPr/>
        </p:nvPicPr>
        <p:blipFill>
          <a:blip r:embed="rId1"/>
          <a:stretch/>
        </p:blipFill>
        <p:spPr>
          <a:xfrm>
            <a:off x="360360" y="324000"/>
            <a:ext cx="2600280" cy="28573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3311640" y="539640"/>
            <a:ext cx="676908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с с латинского языка globus означает «шар». Глобусом называется шарообразная модель планеты или небесной сфе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упоминаемый в литературе земной глобус — глобус Кратеса из Пергамы — был сделан во II в. до н.э. Однако ни сам глобус, ни его изображение не найдены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Глобус   модель Земли окружающий мир Интернет урок интересное "/>
          <p:cNvPicPr/>
          <p:nvPr/>
        </p:nvPicPr>
        <p:blipFill>
          <a:blip r:embed="rId1"/>
          <a:stretch/>
        </p:blipFill>
        <p:spPr>
          <a:xfrm>
            <a:off x="431640" y="1042920"/>
            <a:ext cx="2409840" cy="47624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3095640" y="395280"/>
            <a:ext cx="6985080" cy="68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— урок окружающего мира 2 класс по теме «Глобус- модель Земли». Глобус с латинского языка globus означает «шар». Глобусом называется шарообразная модель планеты или небесной сф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упоминаемый в литературе земной глобус — глобус Кратеса из Пергамы — был сделан во II в. до н.э. Однако ни сам глобус, ни его изображение не найдены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 из сохранившихся считается глобус, изготовленный в 1492 г. немецким географом М. Бехаймом. На нем еще не было Америки, и расстояние между западным побережьем Европы и восточным побережьем Азии было в два раза меньше, чем в действительности. Называли эту модели Земли «Земным яблоко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Глобус   модель Земли окружающий мир Интернет урок интересное "/>
          <p:cNvPicPr/>
          <p:nvPr/>
        </p:nvPicPr>
        <p:blipFill>
          <a:blip r:embed="rId1"/>
          <a:stretch/>
        </p:blipFill>
        <p:spPr>
          <a:xfrm>
            <a:off x="360360" y="900000"/>
            <a:ext cx="4019400" cy="47624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4464000" y="611280"/>
            <a:ext cx="518472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XVI-XVII вв. глобусы стали очень популярны. Их можно было увидеть в покоях монархов, в кабинетах министров, учёных и купцов. Карманные глобусы в специальных футлярах предназначались для путешеств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0" y="0"/>
            <a:ext cx="10080720" cy="78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 об истории создания глобусов, нельзя не упомянуть о глобусах-гигантах. Один из них — глобус-планетарий диаметром 3.1 м и весом 3.5 т — находится в Санкт-Петербурге в музее М.В.Ломоносова. Он был изготовлен известным европейским географом А.Олеарием (1599-1671) и мастером А.Бушем в 1650-1664 гг. для герцога Фридриха III. Он был создан как глобус — планетарий. Он был расписан снаружи —изображение земного глобуса, изнутри —звездное небо со всеми созвездиями. Глобус-планетарий вращался с помощью водяного колеса и гидравлического привода, совершая один оборот в сутки. Внутрь шара вела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хугольная дв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Глобус   модель Земли окружающий мир Интернет урок интересное "/>
          <p:cNvPicPr/>
          <p:nvPr/>
        </p:nvPicPr>
        <p:blipFill>
          <a:blip r:embed="rId1"/>
          <a:stretch/>
        </p:blipFill>
        <p:spPr>
          <a:xfrm>
            <a:off x="719280" y="1692360"/>
            <a:ext cx="4019400" cy="47624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4535640" y="900000"/>
            <a:ext cx="5041800" cy="59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создания глобусов-гигантов не оставляет архитекторов и инженеров. В Италии сооружен 10-метровый вращающийся “Глобус Мира” весом 3.5 т, а в Нью-Йорке на Всемирной выставке 1964 г. демонстрировался самый большой в мире глобус — Унисфера. Стальной шар диаметром 37 м весил более 400 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Глобус   модель Земли окружающий мир Интернет урок интересное "/>
          <p:cNvPicPr/>
          <p:nvPr/>
        </p:nvPicPr>
        <p:blipFill>
          <a:blip r:embed="rId1"/>
          <a:stretch/>
        </p:blipFill>
        <p:spPr>
          <a:xfrm>
            <a:off x="863640" y="4211640"/>
            <a:ext cx="4286160" cy="27432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576360" y="1258920"/>
            <a:ext cx="8640720" cy="19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ью-Йоркском Корона парке находится необычная достопримечатель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295280" y="1187280"/>
            <a:ext cx="626436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о де Эриксон (Globo de Ericsson) – самая большая модель солнечной системы, расположенный в Стокгольм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Глобус   модель Земли окружающий мир Интернет урок интересное "/>
          <p:cNvPicPr/>
          <p:nvPr/>
        </p:nvPicPr>
        <p:blipFill>
          <a:blip r:embed="rId1"/>
          <a:stretch/>
        </p:blipFill>
        <p:spPr>
          <a:xfrm>
            <a:off x="2160720" y="3708360"/>
            <a:ext cx="497196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1008000" y="755640"/>
            <a:ext cx="7993080" cy="28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tha (так называется глобус) ровно в миллион раз меньше оригинала, и каждый дюйм его поверхности соответствует 26 километрам реальной Земли. Глобус с высокой достоверностью отражает земной рельеф, расположение крупнейших транспортных магистралей и населённых пун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Глобус   модель Земли окружающий мир Интернет урок интересное "/>
          <p:cNvPicPr/>
          <p:nvPr/>
        </p:nvPicPr>
        <p:blipFill>
          <a:blip r:embed="rId1"/>
          <a:stretch/>
        </p:blipFill>
        <p:spPr>
          <a:xfrm>
            <a:off x="2735280" y="4140360"/>
            <a:ext cx="4286160" cy="300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1:24:28Z</dcterms:created>
  <dc:creator>владелец; Марина</dc:creator>
  <dc:description/>
  <dc:language>en-US</dc:language>
  <cp:lastModifiedBy>Марина</cp:lastModifiedBy>
  <dcterms:modified xsi:type="dcterms:W3CDTF">2012-11-06T14:46:48Z</dcterms:modified>
  <cp:revision>5</cp:revision>
  <dc:subject/>
  <dc:title>Слайд 1</dc:title>
</cp:coreProperties>
</file>